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81F0A-1CBF-44B7-860F-A7FC360298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71ADF-3DCB-435F-840E-80C82BACFD6B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3E025E-E18F-4D91-BD8F-C768838E4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60BDEF-15F4-4DDB-A93D-958B73E83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DCAD9B-34EB-4965-BBE6-C0F334273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3AC61F-2F63-41E9-A5D5-D0A60D9E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204192-6184-406E-B7F5-A6AC4341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981EFE-0511-4BFD-9A65-5FE9B656B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04679F-5327-4FDB-B71A-6A16DC7EE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69E31E-FFA2-4270-AA28-CEE861D49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25622D-6C1E-4ACB-8502-D6CE1FC70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ADF1C3-C1DD-4040-8A98-D9988CAD3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0D821-4A85-4DDC-A0B2-08E197EE8080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8D2217-5748-46E2-94E0-FC3A73570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C7CDA6-14B0-4489-B47E-39C15F3A4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3FD2DE-3A98-42A2-BF10-C3E118782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6238E1-92F7-4E00-84AB-6560384B4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7D7331-4DD3-4405-B403-598DF5728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10AA45-E496-4E92-9614-43B6E7B87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F76E43-5B56-4F40-AEA8-C92240329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D5D4F3-BFAE-47DA-877D-984FA875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DCB197-1BAD-49F1-BCFC-192927EB1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2AEABF-D657-456F-89E7-C1C39ABC8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B7468-AB5D-49CF-B2ED-BA737B0143F1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F923D0-8377-4314-B720-20A1E4335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75028CF-803D-462E-8868-C4A804C84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25DAFF7-FD2E-4609-8FCA-5AD1A761E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F57FEBF-0A55-4CD3-8A4E-71672F114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A2AD081-B969-46C3-BFD5-7F1B0C110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9D57C90-8EF0-4992-A086-2747A1854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7D20D82-1B13-4BEC-A77C-505103166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624520E-2A7E-40D0-B558-2504D508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A7E702B-DC1E-44C6-8205-95BF5975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C68D2E1-2C46-4281-908B-FA7FC5D43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EC9003-2E59-4FA5-90EC-6046F16D4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9D18728-C194-4D54-A2C6-58CBB37B4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11DF22D-D156-4B08-9FD6-5B6F45BDB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69A65B7-C5B4-4991-B4BD-372385608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24FE1C-3E8E-4DF0-8290-80A71828A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919459-EE63-44BA-8FE3-D90E9315C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64C8B9-846A-42E3-BEC5-A42F850C4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7B649D-F4DA-4A40-B86B-81BE6EEC8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93CCE0-CAEA-4AE7-8929-BB7D47A44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E3D6E3-E1B8-48B5-B344-AE4D86262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1B9B5B-7AF8-447B-8C80-D7F4DB0C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96D33B-DB2F-4A0B-B7CE-CAF0BE615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091535-25DF-43EE-AC0F-E07D2E51C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8A9AAB-BFD7-4BAB-A4A5-04FE806C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987268-AE01-4D82-8386-AD465522B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EFCE36-0DBE-48A2-82F2-C2B42C937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48D1E2-F458-4388-BBF2-470806865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09ECC26-F31E-4F0A-A85F-18D2C8CB1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06A8715-DE52-41D4-8044-EABD5636E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FE54C08-92BA-47D4-98EE-57335ECBC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7B11DF2-924D-4E94-9536-4E0918477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7BC2AE0-73DE-4862-8570-95E9E46C3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30307B-3CB0-45A5-959A-FB34B3DD3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B84C8DC-63ED-4066-B7B8-2A90AD42B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187BDFD-68C0-4C8B-9080-647E7F927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47F4648-80C2-4AD4-AC72-E8141696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EC54993-886C-44B4-8C29-1BBC2FA2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4DF1958-0BC0-4865-B54D-72408BDD5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6147F05-D2C7-48E5-91C0-D6BDF9744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81AD6E5-D180-4EEF-A88E-04AD59E66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CDA91C-71B7-4B7E-B67F-78B2A5E7D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46EF11-662B-4BF5-ACD8-0D4059B9E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5F0C94-062D-48F8-8A59-54248DA2D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939306-A60F-4D67-A91F-3EB4124C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42818-74D6-4E76-9B7B-087E5AA512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CF244E-D5CE-49BA-8431-4D44998C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DE03ED-673C-4A50-972A-8D20E095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BAEF73-7809-469A-83ED-2263A34CE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5E7685-F2D1-4F84-858D-4317AF8EB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0F52D2-77E6-4983-BFDF-302F226C3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C67FAC-3F91-4F34-8B87-0514C7739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7F2D5A-14A8-455D-A58A-61AB37E33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28FF2C-CE1D-4198-AFF8-96498872C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76D9BC-336B-4ECB-900D-7472BF742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2EC866-49C6-449D-86F8-288EE6816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426D8-2D15-4740-AED7-ED4079EF534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C0551D-A3A8-4845-83B6-22CC63C4B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9D47C2-44F9-4B56-B86E-CC4739C7F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8C303C-E417-47A8-A22D-93ED0EB9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6FC073-F249-4A6A-AF0B-A5C258CE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5E1BAD-19C9-4ECF-A465-E4038E17E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15E3CD-62C3-438B-A59A-1914B1921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448F3F-8971-4289-AB3D-50E3B9E86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F64FAD-C64C-48F9-A520-863C778F0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56AD18-2E07-4B3A-A4B5-ECFAA93E3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326983-3F32-4EDC-8A97-4E5804473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51C1A-B1BD-40DB-96FB-7FBF5090A27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3E0D82-47F5-41D6-A099-5F89F23D0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94230E-BBD6-4A1C-AE3B-2080483A5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CEF358-1495-435F-A472-8B12F0F18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DC487E-8B50-4610-912F-11A38FD11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23CB72-8241-4EA2-AE21-6A96B85D7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7D31EC-10E6-4CB2-BC7E-41F5A7E52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3111AC-6C39-4012-8121-B403ED508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EE1EAE-1527-4E80-9732-2B4F64A33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B86730-5B03-4C63-86A1-5B3A10F1A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9E15D3E-4AC7-4BDA-9507-AE01D61B1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DF581-D939-48C3-856D-69C59AE4834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FB79EBB-7391-4133-A562-3FEC0DD5E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F097949-446A-4635-9FAF-33FAB2C53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CABA2DC-99CD-46FB-8A66-0C105FA6F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22A6EAE-7095-45D0-9D2F-DB5D162EE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AE8887E-DDD9-4ED8-8744-98006C7F0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0DF0410-DEC3-4C29-8B4E-EFF16B44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AB56DD9-F53C-461F-AF3D-4A0D6C436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47362CF-8B52-4121-9A91-79C093F0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7016B80-4A69-42C1-8FF4-60B930774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E4097BF-7D03-44B1-80A7-1ABDDEA4F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D0C5B-9FDD-4119-AB8D-D7A0FD26FA2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9969C35-1913-4629-9221-94ED5B536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1C9FF07-72C5-4452-970C-746FF569C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C36BA6F-B971-4747-8077-C4E06EB93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2A0A326-191F-45D9-8E18-106F6257E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A3D95BD-D6B0-451D-9544-E46691274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4234924-0FCD-4C62-970E-A9EDFCFBB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DFB472C-07E3-4E5D-8DBB-1A5D27915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35925FF-F7DA-46FB-BF82-5838556E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0DC8C77-4212-4516-9086-1AF20545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C1F39EE-5BC3-4822-A93A-959814B4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93B50-E759-4378-80CA-1B776C7734F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17C4B08-962E-471F-B25D-73F07C765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0C68CEA-C33C-4682-8A27-E13A53D6A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00D3311-A19D-4538-B049-CEE79CE63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C744EBA-F9FF-4086-845D-BAC2D9CB5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BC34F94-90E5-490E-8A03-2AA9CBA12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DB7381E-9C56-4AEE-95F8-91A596087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D9F1981-D956-4D26-98F2-D1100EB7B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29BC6D1-511D-4B65-ACBF-95B804A99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25C1EFD-B26F-45F8-B7C2-BE4814557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67597CC-D375-4212-8BD4-F018F2C67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7303A-7928-45C6-A2D4-A86A98EBF72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B090582-5BB1-4AEE-AB69-00B51EEFE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8C4C1B2-3C51-409C-9C13-01B1C42EF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36536D2-3870-402F-86D4-E2BD5D0F1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6FFB00C-AE22-4A24-AE15-343D26531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72BEDB4-9E3B-41C9-947B-9821E7CFF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6F05BA6-F5B8-4F3D-AE3A-2CCCF4A13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44A3DD4-5C04-442C-BF42-00A8BBEAA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B88EDE8-4C69-476B-AB18-2685CA8CF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AC20879-CF4E-48DE-AAD6-1D5D4937F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1958A7D-A638-43D8-A623-437460704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87D62-C878-4369-B07E-F07F727C6A3D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A780C94-98C2-4ADA-B9F9-AEB123EF2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95A22CB-DA72-4688-9047-7FAF6542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561A2FD-B519-422B-82F5-FF3FD4C1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CD30E7B-C784-4C96-ACC8-CBC4C843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255CFB4-D84E-4C58-B843-52029E0AF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D2A2F20-03D8-4ECC-8E94-D6F35EC5D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E5DA49A-9FCB-4812-8D3A-F7ED9833F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B5E8F6-0555-4662-8E1E-92DE6C7BB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5F6BCE-1DEF-4D37-91FE-3ACD7372B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DA2F9E-60E4-493E-9412-7E601E2F0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4539D-720A-4964-A2B5-80D63BF1A5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2"/>
          <p:cNvSpPr/>
          <p:nvPr/>
        </p:nvSpPr>
        <p:spPr>
          <a:xfrm>
            <a:off x="397800" y="6443640"/>
            <a:ext cx="426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575d1"/>
                </a:solidFill>
                <a:latin typeface="Arial"/>
              </a:rPr>
              <a:t>Slides and more info: www.cs.rug.nl/svcg/V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12"/>
          <p:cNvSpPr/>
          <p:nvPr/>
        </p:nvSpPr>
        <p:spPr>
          <a:xfrm>
            <a:off x="397800" y="6443640"/>
            <a:ext cx="426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575d1"/>
                </a:solidFill>
                <a:latin typeface="Arial"/>
              </a:rPr>
              <a:t>Slides and more info: www.cs.rug.nl/svcg/V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C864F-DFA4-4290-BDFF-8F5DF828E4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12"/>
          <p:cNvSpPr/>
          <p:nvPr/>
        </p:nvSpPr>
        <p:spPr>
          <a:xfrm>
            <a:off x="397800" y="6443640"/>
            <a:ext cx="426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575d1"/>
                </a:solidFill>
                <a:latin typeface="Arial"/>
              </a:rPr>
              <a:t>Slides and more info: www.cs.rug.nl/svcg/V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3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F4559-B5F3-4447-B802-E93A51CC20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12"/>
          <p:cNvSpPr/>
          <p:nvPr/>
        </p:nvSpPr>
        <p:spPr>
          <a:xfrm>
            <a:off x="397800" y="6443640"/>
            <a:ext cx="426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575d1"/>
                </a:solidFill>
                <a:latin typeface="Arial"/>
              </a:rPr>
              <a:t>Slides and more info: www.cs.rug.nl/svcg/V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3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3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2780B-A95B-4424-B0C6-7C10DBEE89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12"/>
          <p:cNvSpPr/>
          <p:nvPr/>
        </p:nvSpPr>
        <p:spPr>
          <a:xfrm>
            <a:off x="397800" y="6443640"/>
            <a:ext cx="426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575d1"/>
                </a:solidFill>
                <a:latin typeface="Arial"/>
              </a:rPr>
              <a:t>Slides and more info: www.cs.rug.nl/svcg/V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dt" idx="3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ftr" idx="3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sldNum" idx="3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9176A-3341-4019-9148-97FD8F7C1E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12"/>
          <p:cNvSpPr/>
          <p:nvPr/>
        </p:nvSpPr>
        <p:spPr>
          <a:xfrm>
            <a:off x="397800" y="6443640"/>
            <a:ext cx="426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575d1"/>
                </a:solidFill>
                <a:latin typeface="Arial"/>
              </a:rPr>
              <a:t>Slides and more info: www.cs.rug.nl/svcg/V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5CBFB-38B2-45B6-8541-4A909EB0E9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2"/>
          <p:cNvSpPr/>
          <p:nvPr/>
        </p:nvSpPr>
        <p:spPr>
          <a:xfrm>
            <a:off x="397800" y="6443640"/>
            <a:ext cx="426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575d1"/>
                </a:solidFill>
                <a:latin typeface="Arial"/>
              </a:rPr>
              <a:t>Slides and more info: www.cs.rug.nl/svcg/V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92F52-B90E-4560-B376-38F802E08B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2"/>
          <p:cNvSpPr/>
          <p:nvPr/>
        </p:nvSpPr>
        <p:spPr>
          <a:xfrm>
            <a:off x="397800" y="6443640"/>
            <a:ext cx="426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575d1"/>
                </a:solidFill>
                <a:latin typeface="Arial"/>
              </a:rPr>
              <a:t>Slides and more info: www.cs.rug.nl/svcg/V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0B78E-61A2-4C57-B924-80744D8C6E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2"/>
          <p:cNvSpPr/>
          <p:nvPr/>
        </p:nvSpPr>
        <p:spPr>
          <a:xfrm>
            <a:off x="397800" y="6443640"/>
            <a:ext cx="426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575d1"/>
                </a:solidFill>
                <a:latin typeface="Arial"/>
              </a:rPr>
              <a:t>Slides and more info: www.cs.rug.nl/svcg/V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48382-DEE0-450B-802C-4928098929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2"/>
          <p:cNvSpPr/>
          <p:nvPr/>
        </p:nvSpPr>
        <p:spPr>
          <a:xfrm>
            <a:off x="397800" y="6443640"/>
            <a:ext cx="426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575d1"/>
                </a:solidFill>
                <a:latin typeface="Arial"/>
              </a:rPr>
              <a:t>Slides and more info: www.cs.rug.nl/svcg/V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277A3-7313-49B3-91A6-D1089E79C0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12"/>
          <p:cNvSpPr/>
          <p:nvPr/>
        </p:nvSpPr>
        <p:spPr>
          <a:xfrm>
            <a:off x="397800" y="6443640"/>
            <a:ext cx="426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575d1"/>
                </a:solidFill>
                <a:latin typeface="Arial"/>
              </a:rPr>
              <a:t>Slides and more info: www.cs.rug.nl/svcg/V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AD175-2D92-48FB-BF7A-11A162DB43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12"/>
          <p:cNvSpPr/>
          <p:nvPr/>
        </p:nvSpPr>
        <p:spPr>
          <a:xfrm>
            <a:off x="397800" y="6443640"/>
            <a:ext cx="426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575d1"/>
                </a:solidFill>
                <a:latin typeface="Arial"/>
              </a:rPr>
              <a:t>Slides and more info: www.cs.rug.nl/svcg/V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E90EF-5BD6-4A3C-8B37-786D6805D2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12"/>
          <p:cNvSpPr/>
          <p:nvPr/>
        </p:nvSpPr>
        <p:spPr>
          <a:xfrm>
            <a:off x="397800" y="6443640"/>
            <a:ext cx="426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575d1"/>
                </a:solidFill>
                <a:latin typeface="Arial"/>
              </a:rPr>
              <a:t>Slides and more info: www.cs.rug.nl/svcg/V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4EBC0-E938-4B21-8E71-4C919DB777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90"/>
                </a:solidFill>
                <a:latin typeface="Trebuchet MS"/>
              </a:rPr>
              <a:t>Scientific Visualization</a:t>
            </a:r>
            <a:br>
              <a:rPr sz="2300"/>
            </a:br>
            <a:r>
              <a:rPr b="1" i="1" lang="en-US" sz="2300" spc="-1" strike="noStrike">
                <a:solidFill>
                  <a:srgbClr val="7575d1"/>
                </a:solidFill>
                <a:latin typeface="Trebuchet MS"/>
              </a:rPr>
              <a:t>Introduction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45" name="Picture 11" descr=""/>
          <p:cNvPicPr/>
          <p:nvPr/>
        </p:nvPicPr>
        <p:blipFill>
          <a:blip r:embed="rId1"/>
          <a:stretch/>
        </p:blipFill>
        <p:spPr>
          <a:xfrm>
            <a:off x="7569360" y="6443640"/>
            <a:ext cx="1361880" cy="379440"/>
          </a:xfrm>
          <a:prstGeom prst="rect">
            <a:avLst/>
          </a:prstGeom>
          <a:ln w="0">
            <a:noFill/>
          </a:ln>
        </p:spPr>
      </p:pic>
      <p:sp>
        <p:nvSpPr>
          <p:cNvPr id="546" name="TextBox 14"/>
          <p:cNvSpPr/>
          <p:nvPr/>
        </p:nvSpPr>
        <p:spPr>
          <a:xfrm>
            <a:off x="2894400" y="5268960"/>
            <a:ext cx="35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f. dr. Alexandru (Alex) Tel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16"/>
          <p:cNvSpPr/>
          <p:nvPr/>
        </p:nvSpPr>
        <p:spPr>
          <a:xfrm>
            <a:off x="228600" y="6380280"/>
            <a:ext cx="8686800" cy="46080"/>
          </a:xfrm>
          <a:prstGeom prst="rect">
            <a:avLst/>
          </a:prstGeom>
          <a:solidFill>
            <a:srgbClr val="6b6b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18"/>
          <p:cNvSpPr/>
          <p:nvPr/>
        </p:nvSpPr>
        <p:spPr>
          <a:xfrm>
            <a:off x="6129720" y="648828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www.cs.rug.nl/svc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Box 14"/>
          <p:cNvSpPr/>
          <p:nvPr/>
        </p:nvSpPr>
        <p:spPr>
          <a:xfrm>
            <a:off x="2451600" y="5800680"/>
            <a:ext cx="423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artment of Mathematics and Computer 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ersity of Groningen, the Netherla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0" name="Object 1024"/>
          <p:cNvGraphicFramePr/>
          <p:nvPr/>
        </p:nvGraphicFramePr>
        <p:xfrm>
          <a:off x="4952880" y="3629160"/>
          <a:ext cx="1103400" cy="1218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1" name="Object 102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52880" y="3629160"/>
                    <a:ext cx="110340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2" name="Object 1025"/>
          <p:cNvGraphicFramePr/>
          <p:nvPr/>
        </p:nvGraphicFramePr>
        <p:xfrm>
          <a:off x="2743200" y="3629160"/>
          <a:ext cx="2131920" cy="1476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53" name="Object 102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43200" y="3629160"/>
                    <a:ext cx="2131920" cy="14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4" name="Object 1026"/>
          <p:cNvGraphicFramePr/>
          <p:nvPr/>
        </p:nvGraphicFramePr>
        <p:xfrm>
          <a:off x="5334120" y="2104920"/>
          <a:ext cx="1458720" cy="1463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55" name="Object 102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2104920"/>
                    <a:ext cx="1458720" cy="14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6" name="Object 1027"/>
          <p:cNvGraphicFramePr/>
          <p:nvPr/>
        </p:nvGraphicFramePr>
        <p:xfrm>
          <a:off x="3809880" y="2104920"/>
          <a:ext cx="1446480" cy="14637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57" name="Object 102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809880" y="2104920"/>
                    <a:ext cx="1446480" cy="14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8" name="Object 1028"/>
          <p:cNvGraphicFramePr/>
          <p:nvPr/>
        </p:nvGraphicFramePr>
        <p:xfrm>
          <a:off x="2209680" y="2104920"/>
          <a:ext cx="1524240" cy="14479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59" name="Object 102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209680" y="2104920"/>
                    <a:ext cx="152424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extBox 14"/>
          <p:cNvSpPr/>
          <p:nvPr/>
        </p:nvSpPr>
        <p:spPr>
          <a:xfrm>
            <a:off x="228600" y="655560"/>
            <a:ext cx="8458200" cy="46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99"/>
                </a:solidFill>
                <a:latin typeface="Arial"/>
              </a:rPr>
              <a:t>Course Structure</a:t>
            </a: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0"/>
                </a:solidFill>
                <a:latin typeface="Arial"/>
              </a:rPr>
              <a:t>Lectur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 lectures on various data visualization top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e and illustrate the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sent examp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active setting: slides, demos, questions from audience (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0"/>
                </a:solidFill>
                <a:latin typeface="Arial"/>
              </a:rPr>
              <a:t>Lab se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 lab sessions – work towards your final assig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 a real-world visualization application using the taught techn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in groups (1..max 3 students); groups of 2 are encourag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0"/>
                </a:solidFill>
                <a:latin typeface="Arial"/>
              </a:rPr>
              <a:t>Contact h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parate discussions with the assistants or teacher for each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 fine-grained feedback, discuss blockers, receive challenges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heduled up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11" descr=""/>
          <p:cNvPicPr/>
          <p:nvPr/>
        </p:nvPicPr>
        <p:blipFill>
          <a:blip r:embed="rId1"/>
          <a:stretch/>
        </p:blipFill>
        <p:spPr>
          <a:xfrm>
            <a:off x="7569360" y="6443640"/>
            <a:ext cx="1361880" cy="379440"/>
          </a:xfrm>
          <a:prstGeom prst="rect">
            <a:avLst/>
          </a:prstGeom>
          <a:ln w="0">
            <a:noFill/>
          </a:ln>
        </p:spPr>
      </p:pic>
      <p:sp>
        <p:nvSpPr>
          <p:cNvPr id="562" name="Rectangle 6"/>
          <p:cNvSpPr/>
          <p:nvPr/>
        </p:nvSpPr>
        <p:spPr>
          <a:xfrm>
            <a:off x="228600" y="6380280"/>
            <a:ext cx="8686800" cy="46080"/>
          </a:xfrm>
          <a:prstGeom prst="rect">
            <a:avLst/>
          </a:prstGeom>
          <a:solidFill>
            <a:srgbClr val="6b6b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18"/>
          <p:cNvSpPr/>
          <p:nvPr/>
        </p:nvSpPr>
        <p:spPr>
          <a:xfrm>
            <a:off x="6129720" y="648828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www.cs.rug.nl/svc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11" descr=""/>
          <p:cNvPicPr/>
          <p:nvPr/>
        </p:nvPicPr>
        <p:blipFill>
          <a:blip r:embed="rId2"/>
          <a:stretch/>
        </p:blipFill>
        <p:spPr>
          <a:xfrm>
            <a:off x="7543800" y="3457440"/>
            <a:ext cx="1422360" cy="1862280"/>
          </a:xfrm>
          <a:prstGeom prst="rect">
            <a:avLst/>
          </a:prstGeom>
          <a:ln w="0">
            <a:noFill/>
          </a:ln>
        </p:spPr>
      </p:pic>
      <p:sp>
        <p:nvSpPr>
          <p:cNvPr id="565" name="Rectangle 12"/>
          <p:cNvSpPr/>
          <p:nvPr/>
        </p:nvSpPr>
        <p:spPr>
          <a:xfrm>
            <a:off x="6494400" y="5562720"/>
            <a:ext cx="2590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Visualization: Principles and Practic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. K. Peters,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1" descr=""/>
          <p:cNvPicPr/>
          <p:nvPr/>
        </p:nvPicPr>
        <p:blipFill>
          <a:blip r:embed="rId3"/>
          <a:stretch/>
        </p:blipFill>
        <p:spPr>
          <a:xfrm>
            <a:off x="7570800" y="609480"/>
            <a:ext cx="1420920" cy="1752840"/>
          </a:xfrm>
          <a:prstGeom prst="rect">
            <a:avLst/>
          </a:prstGeom>
          <a:ln w="0">
            <a:noFill/>
          </a:ln>
        </p:spPr>
      </p:pic>
      <p:sp>
        <p:nvSpPr>
          <p:cNvPr id="567" name="Rectangle 12"/>
          <p:cNvSpPr/>
          <p:nvPr/>
        </p:nvSpPr>
        <p:spPr>
          <a:xfrm>
            <a:off x="6858000" y="2438280"/>
            <a:ext cx="2590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ta Visualization: Principles and Practice, 2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edition, CRC Press,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extBox 14"/>
          <p:cNvSpPr/>
          <p:nvPr/>
        </p:nvSpPr>
        <p:spPr>
          <a:xfrm>
            <a:off x="457200" y="655560"/>
            <a:ext cx="8458200" cy="58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99"/>
                </a:solidFill>
                <a:latin typeface="Arial"/>
              </a:rPr>
              <a:t>For </a:t>
            </a:r>
            <a:r>
              <a:rPr b="0" i="1" lang="en-US" sz="2300" spc="-1" strike="noStrike">
                <a:solidFill>
                  <a:srgbClr val="333399"/>
                </a:solidFill>
                <a:latin typeface="Arial"/>
              </a:rPr>
              <a:t>whom</a:t>
            </a:r>
            <a:r>
              <a:rPr b="0" lang="en-US" sz="2300" spc="-1" strike="noStrike">
                <a:solidFill>
                  <a:srgbClr val="333399"/>
                </a:solidFill>
                <a:latin typeface="Arial"/>
              </a:rPr>
              <a:t> is this course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under)graduate students and practitio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ested to apply data visualization to solve real-world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ested to get familiar with the principles and practice of data visua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99"/>
                </a:solidFill>
                <a:latin typeface="Arial"/>
              </a:rPr>
              <a:t>What you need to know </a:t>
            </a:r>
            <a:r>
              <a:rPr b="0" i="1" lang="en-US" sz="2300" spc="-1" strike="noStrike">
                <a:solidFill>
                  <a:srgbClr val="333399"/>
                </a:solidFill>
                <a:latin typeface="Arial"/>
              </a:rPr>
              <a:t>before</a:t>
            </a:r>
            <a:r>
              <a:rPr b="0" lang="en-US" sz="2300" spc="-1" strike="noStrike">
                <a:solidFill>
                  <a:srgbClr val="333399"/>
                </a:solidFill>
                <a:latin typeface="Arial"/>
              </a:rPr>
              <a:t>:</a:t>
            </a: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cs of computer graphics (2D/3D modeling, rendering, interac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c algebra and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c programming sk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99"/>
                </a:solidFill>
                <a:latin typeface="Arial"/>
              </a:rPr>
              <a:t>What you will know </a:t>
            </a:r>
            <a:r>
              <a:rPr b="0" i="1" lang="en-US" sz="2300" spc="-1" strike="noStrike">
                <a:solidFill>
                  <a:srgbClr val="333399"/>
                </a:solidFill>
                <a:latin typeface="Arial"/>
              </a:rPr>
              <a:t>after</a:t>
            </a:r>
            <a:r>
              <a:rPr b="0" lang="en-US" sz="2300" spc="-1" strike="noStrike">
                <a:solidFill>
                  <a:srgbClr val="333399"/>
                </a:solidFill>
                <a:latin typeface="Arial"/>
              </a:rPr>
              <a:t>:</a:t>
            </a: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view of data visualization </a:t>
            </a:r>
            <a:r>
              <a:rPr b="0" lang="en-US" sz="1800" spc="-1" strike="noStrike">
                <a:solidFill>
                  <a:srgbClr val="7575d1"/>
                </a:solidFill>
                <a:latin typeface="Arial"/>
              </a:rPr>
              <a:t>techniqu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lassical and state-of-the-a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makes a </a:t>
            </a:r>
            <a:r>
              <a:rPr b="0" lang="en-US" sz="1800" spc="-1" strike="noStrike">
                <a:solidFill>
                  <a:srgbClr val="7575d1"/>
                </a:solidFill>
                <a:latin typeface="Arial"/>
              </a:rPr>
              <a:t>goo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ization application (design, usability, specificity, 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are unsolved </a:t>
            </a:r>
            <a:r>
              <a:rPr b="0" lang="en-US" sz="1800" spc="-1" strike="noStrike">
                <a:solidFill>
                  <a:srgbClr val="7575d1"/>
                </a:solidFill>
                <a:latin typeface="Arial"/>
              </a:rPr>
              <a:t>challeng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visualization (waiting for you to work 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visualization is a growing, exciting </a:t>
            </a:r>
            <a:r>
              <a:rPr b="0" lang="en-US" sz="1800" spc="-1" strike="noStrike">
                <a:solidFill>
                  <a:srgbClr val="7575d1"/>
                </a:solidFill>
                <a:latin typeface="Arial"/>
              </a:rPr>
              <a:t>researc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eld to work i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11" descr=""/>
          <p:cNvPicPr/>
          <p:nvPr/>
        </p:nvPicPr>
        <p:blipFill>
          <a:blip r:embed="rId1"/>
          <a:stretch/>
        </p:blipFill>
        <p:spPr>
          <a:xfrm>
            <a:off x="7569360" y="6443640"/>
            <a:ext cx="1361880" cy="379440"/>
          </a:xfrm>
          <a:prstGeom prst="rect">
            <a:avLst/>
          </a:prstGeom>
          <a:ln w="0">
            <a:noFill/>
          </a:ln>
        </p:spPr>
      </p:pic>
      <p:sp>
        <p:nvSpPr>
          <p:cNvPr id="570" name="Rectangle 6"/>
          <p:cNvSpPr/>
          <p:nvPr/>
        </p:nvSpPr>
        <p:spPr>
          <a:xfrm>
            <a:off x="228600" y="6380280"/>
            <a:ext cx="8686800" cy="46080"/>
          </a:xfrm>
          <a:prstGeom prst="rect">
            <a:avLst/>
          </a:prstGeom>
          <a:solidFill>
            <a:srgbClr val="6b6b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8"/>
          <p:cNvSpPr/>
          <p:nvPr/>
        </p:nvSpPr>
        <p:spPr>
          <a:xfrm>
            <a:off x="6129720" y="648828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www.cs.rug.nl/svc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xtBox 14"/>
          <p:cNvSpPr/>
          <p:nvPr/>
        </p:nvSpPr>
        <p:spPr>
          <a:xfrm>
            <a:off x="457200" y="655560"/>
            <a:ext cx="8458200" cy="541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99"/>
                </a:solidFill>
                <a:latin typeface="Arial"/>
              </a:rPr>
              <a:t>Timetabl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0"/>
                </a:solidFill>
                <a:latin typeface="Arial"/>
              </a:rPr>
              <a:t>Week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cture: Introduction to Data Visual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: 1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ssignment step: setting up software skeleton delivered with course materi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her: form project groups; report groups to teaching assist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0"/>
                </a:solidFill>
                <a:latin typeface="Arial"/>
              </a:rPr>
              <a:t>Week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cture: Data Re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: 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ssignment step: color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her: small-scale group refinements (late comme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0"/>
                </a:solidFill>
                <a:latin typeface="Arial"/>
              </a:rPr>
              <a:t>Week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cture: Scalar Visual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: 3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ssignment step: glyph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her: students choose track 1 or track 2 of the assig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0"/>
                </a:solidFill>
                <a:latin typeface="Arial"/>
              </a:rPr>
              <a:t>Week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cture: Vector Visual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: 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ssignment step: divergence / grad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her: mid-project assessment by lecturer based on lab assistants’ feedb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11" descr=""/>
          <p:cNvPicPr/>
          <p:nvPr/>
        </p:nvPicPr>
        <p:blipFill>
          <a:blip r:embed="rId1"/>
          <a:stretch/>
        </p:blipFill>
        <p:spPr>
          <a:xfrm>
            <a:off x="7569360" y="6443640"/>
            <a:ext cx="1361880" cy="379440"/>
          </a:xfrm>
          <a:prstGeom prst="rect">
            <a:avLst/>
          </a:prstGeom>
          <a:ln w="0">
            <a:noFill/>
          </a:ln>
        </p:spPr>
      </p:pic>
      <p:sp>
        <p:nvSpPr>
          <p:cNvPr id="574" name="Rectangle 6"/>
          <p:cNvSpPr/>
          <p:nvPr/>
        </p:nvSpPr>
        <p:spPr>
          <a:xfrm>
            <a:off x="228600" y="6380280"/>
            <a:ext cx="8686800" cy="46080"/>
          </a:xfrm>
          <a:prstGeom prst="rect">
            <a:avLst/>
          </a:prstGeom>
          <a:solidFill>
            <a:srgbClr val="6b6b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18"/>
          <p:cNvSpPr/>
          <p:nvPr/>
        </p:nvSpPr>
        <p:spPr>
          <a:xfrm>
            <a:off x="6129720" y="648828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www.cs.rug.nl/svc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Box 14"/>
          <p:cNvSpPr/>
          <p:nvPr/>
        </p:nvSpPr>
        <p:spPr>
          <a:xfrm>
            <a:off x="457200" y="655560"/>
            <a:ext cx="8458200" cy="51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99"/>
                </a:solidFill>
                <a:latin typeface="Arial"/>
              </a:rPr>
              <a:t>Timetabl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0"/>
                </a:solidFill>
                <a:latin typeface="Arial"/>
              </a:rPr>
              <a:t>Week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cture: Tensor Visual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: 5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ssignment step: isolines / streaml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0"/>
                </a:solidFill>
                <a:latin typeface="Arial"/>
              </a:rPr>
              <a:t>Week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cture: Volume Visual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: 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ssignment step: height plots / sl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her: students start writing the final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0"/>
                </a:solidFill>
                <a:latin typeface="Arial"/>
              </a:rPr>
              <a:t>Week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cture: Advanced Topics (Shape modeling, Information visualization, 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: 7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ssignment step: stream tubes / stream surf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her: students may choose to work on the bonus assignment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0"/>
                </a:solidFill>
                <a:latin typeface="Arial"/>
              </a:rPr>
              <a:t>Finalization (~2-3 weeks after the course end, exact date to be announc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al presentations: show your work to the entire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ignment: hand in the written report and 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aluation: final feedback session with teacher; grades delive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Picture 11" descr=""/>
          <p:cNvPicPr/>
          <p:nvPr/>
        </p:nvPicPr>
        <p:blipFill>
          <a:blip r:embed="rId1"/>
          <a:stretch/>
        </p:blipFill>
        <p:spPr>
          <a:xfrm>
            <a:off x="7569360" y="6443640"/>
            <a:ext cx="1361880" cy="379440"/>
          </a:xfrm>
          <a:prstGeom prst="rect">
            <a:avLst/>
          </a:prstGeom>
          <a:ln w="0">
            <a:noFill/>
          </a:ln>
        </p:spPr>
      </p:pic>
      <p:sp>
        <p:nvSpPr>
          <p:cNvPr id="578" name="Rectangle 6"/>
          <p:cNvSpPr/>
          <p:nvPr/>
        </p:nvSpPr>
        <p:spPr>
          <a:xfrm>
            <a:off x="228600" y="6380280"/>
            <a:ext cx="8686800" cy="46080"/>
          </a:xfrm>
          <a:prstGeom prst="rect">
            <a:avLst/>
          </a:prstGeom>
          <a:solidFill>
            <a:srgbClr val="6b6b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18"/>
          <p:cNvSpPr/>
          <p:nvPr/>
        </p:nvSpPr>
        <p:spPr>
          <a:xfrm>
            <a:off x="6129720" y="648828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www.cs.rug.nl/svc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TextBox 14"/>
          <p:cNvSpPr/>
          <p:nvPr/>
        </p:nvSpPr>
        <p:spPr>
          <a:xfrm>
            <a:off x="457200" y="655560"/>
            <a:ext cx="8458200" cy="49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99"/>
                </a:solidFill>
                <a:latin typeface="Arial"/>
              </a:rPr>
              <a:t>Additional Remark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0"/>
                </a:solidFill>
                <a:latin typeface="Arial"/>
              </a:rPr>
              <a:t>Be presen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ctures: giv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etail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eedback on how to embed theory in the assignment 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s: compulsory – teaching assistants assess your work and prog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onal sessions – optional, but your chance to personalized feedback on your 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0"/>
                </a:solidFill>
                <a:latin typeface="Arial"/>
              </a:rPr>
              <a:t>Be proactiv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ctures: ask any question, any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s: teaching assistants are there to help you, so show your progress/ques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onal sessions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them when you are blocked or need more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0"/>
                </a:solidFill>
                <a:latin typeface="Arial"/>
              </a:rPr>
              <a:t>Watch the tim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book: start reading early, there is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 lot of mater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ignment: keep the pace (1 step/week); report delays/blocker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a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 lab assistant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ort: start writing no later than week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0"/>
                </a:solidFill>
                <a:latin typeface="Arial"/>
              </a:rPr>
              <a:t>Last but not least: Have fu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11" descr=""/>
          <p:cNvPicPr/>
          <p:nvPr/>
        </p:nvPicPr>
        <p:blipFill>
          <a:blip r:embed="rId1"/>
          <a:stretch/>
        </p:blipFill>
        <p:spPr>
          <a:xfrm>
            <a:off x="7569360" y="6443640"/>
            <a:ext cx="1361880" cy="379440"/>
          </a:xfrm>
          <a:prstGeom prst="rect">
            <a:avLst/>
          </a:prstGeom>
          <a:ln w="0">
            <a:noFill/>
          </a:ln>
        </p:spPr>
      </p:pic>
      <p:sp>
        <p:nvSpPr>
          <p:cNvPr id="582" name="Rectangle 6"/>
          <p:cNvSpPr/>
          <p:nvPr/>
        </p:nvSpPr>
        <p:spPr>
          <a:xfrm>
            <a:off x="228600" y="6380280"/>
            <a:ext cx="8686800" cy="46080"/>
          </a:xfrm>
          <a:prstGeom prst="rect">
            <a:avLst/>
          </a:prstGeom>
          <a:solidFill>
            <a:srgbClr val="6b6b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18"/>
          <p:cNvSpPr/>
          <p:nvPr/>
        </p:nvSpPr>
        <p:spPr>
          <a:xfrm>
            <a:off x="6129720" y="648828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www.cs.rug.nl/svc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13:22:49Z</dcterms:created>
  <dc:creator>Ozan</dc:creator>
  <dc:description/>
  <dc:language>en-US</dc:language>
  <cp:lastModifiedBy>Alex Telea</cp:lastModifiedBy>
  <dcterms:modified xsi:type="dcterms:W3CDTF">2014-11-10T11:17:25Z</dcterms:modified>
  <cp:revision>184</cp:revision>
  <dc:subject/>
  <dc:title>Image-Based Edge Bundles: Simplified Visualization of Large Graphs  A. Telea and O. Ersoy </dc:title>
</cp:coreProperties>
</file>